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7C9-DB4B-49FD-806E-3D9ED289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B20-026F-4BDF-8AA4-34B4C5E0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FC883-D86A-487A-86DC-D8239650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50147-71F1-4775-ADE9-75A66E79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F62CE-03DD-4002-95C9-8FEFBA89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9FECB-4A90-4722-89C8-FC69C48D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BD20D-1F36-4A69-A1D8-FA4CF652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D0302-4F1E-48B9-A7A2-031303BB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3C8BD-2D2C-42F8-9102-A46D1D99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EF0B1-FEE2-4044-932A-3366D4DF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E935B-EA71-469C-A25B-AEBA2E31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72351-05FA-4885-82FE-2783BA0F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D8E-92AB-403A-8430-D99E3578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7FB01-296F-4490-B697-A729AB1B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5F6CA-4A32-4FEB-AC69-4DC37CE0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7353E-CE7F-4FE5-BA38-373C87D7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73404-16F9-4C9D-BBDE-ADE58D8B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74CA2-F596-41F0-9403-AEEAE761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0C0CD-476F-4D82-9DB4-37BF9D69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53EBD-A6F8-48F7-B515-E3E24FF5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2EDB5-2D58-42C5-85A6-C5A74A0E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FE8C4-E25D-44CF-B297-C7730A67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AD93A-BC5C-4A5B-82AE-BCB0B170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8FD-E7C9-4314-B521-1FDACAF0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33B0E-AF83-42F1-885B-415AC0F3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575B7-9A2B-48E7-835C-9A2D0C76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AD283-B863-4807-99EB-3107FD42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DA3A2-0033-40FF-A4CE-EC223351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1AD4F-2A4F-4041-A860-9825A30F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E9BEF-EBD7-4D80-89F2-576FAA49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AA66B-5408-440B-8ED4-10C0B55A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DFED3-C692-4F21-BA7F-004B5492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E27FF-0E30-4838-8171-6405F0C6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2FE67-33CD-4E40-BA93-003221AA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95E2-0F7D-4CF4-88B3-4CE43BAB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542B6-E925-424E-844B-083E1977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4BA80-543D-4061-9CE3-E0959322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30DA7-DDEB-4F44-A595-394A7486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F4B33-6987-4539-88E4-C260D4E5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645A1-F026-4087-A88E-00D582AB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4FA26-46B9-4917-86CB-1DB4C96D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3FAD9-3888-435B-BD06-E080E2BD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C8015-539C-412F-A536-C780A2F2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06870-E5E7-4872-98E0-F843E5E2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72DA3-A2A2-4C16-B967-4186FB5F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4822-5DCC-47DE-9D4A-10F0663E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54A9B-C530-4ADD-B8B2-1958944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DE2CE-3627-40AD-A43A-007309EC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7CAE2-577D-41F6-B991-3D427AA4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74961-2EE6-4605-87C8-33DC28D0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3C578-212A-4C06-862C-00EB6B76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DBCC5-F725-49A2-B6EC-BCA7108E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6A913-49D2-4DB4-9C5B-3F5455F1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3FC3D-E90F-485E-8C24-F40D7AE2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1966A-51EB-427E-87EB-4066EA58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34D9D-83FB-4710-8CD4-2F840FD0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9F87-E12C-4152-8D01-F6C4FC2C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678C7-EB38-4FC4-A3BB-46C8D252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D9548-02DE-4129-B4F1-5CDC8A08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BB444-594F-4313-BF64-2FFAB8F9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15B0F-0AAF-4291-A144-119F5FC0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17550-56BA-4FF3-8C2B-EBC74AB9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0C2C0-0FF5-4E3E-99CC-28D46533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63C0B-EEE8-4BA0-A13E-4ACB0E3D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467A3-6D9D-4762-ADCE-757F3A28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589B8-5748-498B-894E-FB49D353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EDBC5-B1B2-4EA8-B9C1-351A41ED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CCBC-8F0E-4447-BE67-22A64836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BE21D-DAAA-424D-AE8A-9C59E0E7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DD059-C520-4446-B9CB-C8241865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4B292-49D1-4DC0-8E51-3FB522EC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B4F84-F0DE-440B-BC42-FE6DDA05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95D244-10B7-4854-8C2B-A8B56E3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3CECC-F0E8-4697-B01A-1FCF97DB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42FE4-0467-419C-AF9D-8568E7C5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EF288-4217-40CC-8939-E497251B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DF846-A56E-4CE8-B483-0BA8FBFA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10921-C02D-4836-98F9-BB2094B9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5EC9-61CD-48B7-8EC5-0B016B72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7C044-6BD9-4C5A-8430-67376B82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88ED2-3736-44EE-960E-A51D4FF0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FD3E8-56CC-4E38-B2F7-E854C088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969A6E-AA66-4950-9178-073BDBAA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E8634-073C-49B2-9702-A245CCC5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FE10A-326B-45B7-8381-4DAEC253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8346B-8567-4A17-83A8-CD39C2CD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E6885-6DA1-4094-A1AD-68A554B8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18D44-A5B1-459F-8DFF-CAA1A6A9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CB074-FAAF-422F-8BF0-26BD3E87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3886-2859-4E30-AA8D-651F00E6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ECD92-6508-49D6-9E9C-9152EB6F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6ED5E-F755-4A03-96DD-37050749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FEB2B-BC5D-4945-95E6-D5B7DBD2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2BEF3-B6FC-4D6B-A16B-D077E427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E6B16-5FB9-4F55-ACF4-006C3A72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30C2C-138B-4CB5-8F9C-425A3495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5F361-AEFA-4DAB-BFDD-3C59C82E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7138F2-025C-4C57-8BC7-B4B44724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49CA79-77A1-4126-B74C-B5956186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937B0-C4CF-42A6-93AC-EEB3B1BF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B448-2189-4831-8FE6-F155786B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05809-752B-4D1F-A312-B039E8EA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35732-C6F1-4FAA-9D3C-DF259357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8128D0-90D1-4FF3-96D8-29995F84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298CD-E52E-4928-9429-72F183B0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068D76-B720-45B1-AA33-C58297E3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1F763-DEB1-40D1-81E3-B7641B40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0E247F-17E1-4486-8C7E-5FA401C0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F2D1A-7F21-4AFD-A4BA-2E7FCA4A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A5AB0-BCF6-4C61-826A-2B1A4940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11FC1-C3D2-4260-923C-2256BFF3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940-CCBE-41E8-BD08-7867CAFA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A199-37DB-4B4F-9FE4-25022C2E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395079-EAAC-4ABA-89A9-936B4452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768ED4-746A-44F8-8810-F113AE6E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0D4674-8D21-4EB7-B8D5-BCFDFDE6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F9907-8021-4503-9FBC-840FE430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0B6595-3441-43AD-B2F3-9133D1E4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22603-0B3C-4459-9591-0DEC9DDC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60BDF-9B15-46B6-B12D-C7F1CA10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DDA539-92B3-47C2-AF1C-23AA85C0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82B222-70FF-4F2E-9214-1C9CFE14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3E763-48AB-4B1A-95A3-21E94C03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88EB-653D-40ED-8AB8-9097CBD0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4916B0-BC5D-4D02-B621-E0AA8177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5EA333-E75F-4C51-99EE-6EFD595C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3C5AE8-8E3A-42B7-B17D-CEA1AE19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268F37-8891-4236-BA0A-80AE9344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921744-2F12-4F85-A67A-B3A24745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1D08D-7B56-462E-AEA8-810E3C64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1DDB7-2A4E-4AC1-8589-E5CF7DB4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7E850-3E73-403E-9225-620956AE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6E464-A895-4FFA-9BBA-F34C0443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02A297-5916-4D2F-A0D7-64ADBB7C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4C36-8C38-436A-B737-2F4DCBBC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A71EE-8ADD-43C4-9B31-03D4CE9D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EDB90A-EA18-4959-A8A1-015687FD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F36D7-C756-494E-851E-878DA9CE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4321E-EEAD-4554-A75D-F5CB8277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B7F668-7D0D-4669-90D4-4208822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A5EBC4-1F9A-4598-B13E-C8E0BA3C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EAF85-D207-4DA7-AB00-6891B5DE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37145F-F88D-4CB8-8ACE-2683031D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38F8BA-9675-40DD-A42C-0CA334B3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EAAD2-B37B-4E3F-A147-0793411D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4456-0374-42BF-9A98-2851FC40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4A671E-B9BC-40AF-BE4C-812DF106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D0AFAF-BD99-4962-A5F4-29189A7D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62ED10-114B-4209-8E3F-6B899218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B7B436-91FF-43C5-9DD2-8F3EBF06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979CD-457C-4683-A869-19F93FDB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C6F9A5-29B3-4349-9930-7BACD32D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3FF3B6-E006-4C8B-BE31-CD250D64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B9A91-C062-436A-AF1F-D282A16B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C2C01E-FDBC-4CC3-B2AA-750DD425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4269E5-EA64-401B-81EE-6285C4E4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A06B-761A-4544-B523-E01800D9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13EEF-E99E-4C48-90ED-F9F0248B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A2E1F6-EE06-411C-9EF0-48C577B6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98E1B2-D340-4C16-82C5-30BB368E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A33500-BECC-42CC-8181-81AEA884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F165A6-C35D-4DFF-A859-2E638FC6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16103B-B4CC-4DD0-8DD8-513FF006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44D2F1-6562-4A93-AFA4-6E75A32F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3EBE5-0B5B-45C4-88FA-2383835F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B558C0-1FDC-4F73-8DE8-E360D3E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2E36FD-C841-4395-9D32-27D07808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0A3B7-2F67-4245-BD75-A07352FD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22831D-5C8E-4527-8458-797BEAB9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7DEE07-13D8-4C23-9DA7-01236E39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2B7FC0-31F5-4605-A8AA-37A2BF30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5685-C5DC-4CDA-AA5A-43AAE79F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50A7-70A2-4888-96FB-2B662718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545D-40A6-4994-B084-AC970031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84CC-584F-4AA6-BAC2-1E3CBBE6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5BE-E09B-40CC-934B-2F5398DD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8304-3F12-4B08-AC1F-9669A646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2D12A-F2B2-4671-AB21-51B2B8D5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5EC3D-EF91-4E2C-ABC2-BE76B2FC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FF371-EA21-4DF9-A734-29A20BF5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EEE7-A6BA-40BA-9B03-60C0385E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915B1-4596-4C29-81E0-36517186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A5B4-ECB8-4342-A734-213916D8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F81BA-0FF4-416F-BD7D-32DA4F11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971F3-FE5A-45EB-A2E5-9879CF15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E3ECB-FD12-4246-AE93-F46224B3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FA4-8744-4D55-80F5-10C4720A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BAB00-8C40-42ED-80DD-41D8BDE8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283CF-51CF-4C8D-9CDD-BA1B4633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87E53-93FA-42F8-B538-4CC4A4F5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498A1-81A8-4BEC-A206-C07DB67B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885B3-6DA9-489D-9E8E-68DDD25B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F2D64-6EE2-48B8-BAE9-2FF807C2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F8724-CEBD-41DD-867D-03493C4F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BAAC-0FF2-46B4-B8C2-44C54CFF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A5BB3-24BD-4A05-9C2F-369A4603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51B6F-5CBC-48C4-B57F-A8F570B5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820-16CB-4886-9ED6-90CF77F7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3C25-0254-4993-AE60-2F968BAA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AE23B-A41F-413A-BD8C-158B49D1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4B0C6-5EA3-49D9-9996-D9690718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AB1B1-909A-4979-8397-8AB42E3D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21F07-1C26-4EC5-9911-0CBC3C02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F3B4B-2A95-4188-8BE6-3666C1C0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251D1-DF20-4D69-906D-BD9F8591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61D2F-91ED-4376-9ED2-43ADB2D3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530AD-6397-49A6-BE95-37FF9780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E2E80-7877-4321-8AA8-ECC70527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D9E-C05A-44E0-A56C-C4D111F1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86EA3-6288-49E2-A878-87072079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8A460-1631-49B3-9106-0F2CD211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F44DD-A523-41FB-A5CA-1A91E85A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21018-D6D0-4EC7-AAB1-1394F2C3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E0CF8-C1A8-4CB7-8E9A-FF29EA4D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372E4-0D4F-47B3-AB72-F8E69601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B0B1E-5D52-4088-B93F-944FE76E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4DD0F-5645-4B51-B7AA-5DB3F16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00E07-E7BB-4B04-AB81-F1FB4CF7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B2359-BA21-4CC1-BE35-68F8F87A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CDE-3174-4104-9ADB-F5B8846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35AB1-FC09-430F-A894-CA9E0842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997AE-D375-49E1-91FF-E8C79824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C81B4-FAA9-4BD6-9C8F-E3F18556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A921A-8460-4214-810A-72F77928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3F533-925B-4781-AED1-377FD3E7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2ECD7-F728-4053-A058-5490197B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A00CA-F5C4-40F6-8FBC-A430505A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C174C-D910-4F10-B452-3B6F9BBC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B5436-469B-48FC-AB1F-48D2176C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7ABED-50A3-4745-B87D-707CE70A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385-8F88-466C-A26C-F655A3E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9B5F1-81A5-4C14-BCA5-5FAD09B4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79705-366C-4676-B7F8-7968C2D1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410ED-C503-4DF0-80A9-1CD92F58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45C86-626D-47F9-878D-9A4FD508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6EEA3-4404-43AE-A7F1-893D9C42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F8984-55BC-4F13-B17E-8C42EFB6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5304C-0741-45BD-8FBD-FB2F162C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12ABC-6A00-4C33-9CCE-37244AD9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3C176-41A1-40A1-A312-4FBBC6E4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5B5D8-DE15-4430-8B3F-0845F087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E11-A719-4252-92E5-41DD68AC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31E1A-C4E5-4B23-96AD-698CEEA0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0279D-A1FD-4337-8238-196F9196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FD696-39C2-455D-BE01-8056FB80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5EBBC-ABF7-49C7-931A-82863684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EB961-0496-434D-8F31-A5F50E87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5C349-FA75-41A3-A87B-54E45A5E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FA90C-7E13-4363-87B8-7156C3E7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E1C35-0834-4E37-8E23-FD9247DC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7C6F7-56E4-4F15-A699-2222D1E5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768BD-4769-4DE4-AE15-FCB65263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4C04-88DA-43D1-BCEF-6E43138759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74C7-F101-4808-9E64-A01F5E0828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6154-EA92-4CF5-98A1-858FEA891E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0BEE-2E0A-4E35-BEC0-864BC09874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67BE-A779-43B4-94F1-7B75153AAC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954F-E7EA-43E3-B2BA-E075E9C570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1984-D09C-4EAE-B1C6-A7B8472409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1D2E-16BC-421E-BB1C-4B2BE168E7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2DC8-2B82-4E08-99C4-6C54E9184A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93E1-BB50-4A23-9739-333B39F79D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3688-A108-467B-84D1-D69EBE599D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96CE-4080-41A8-802D-7C4D5531CC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99A4-9D95-4BB3-95EE-37B1D6B11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9178-AA55-4A21-AD8E-D8C4DAEFF2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7BB9-C7FB-4F29-908F-8B4C550EBD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AE8B-CDC0-461F-96ED-E9AA831D2C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5CD0-4215-4BB5-A447-BB2AB0AF0E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F74A-CAFF-4703-A993-B0DD5261D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FAB5-D51F-43D1-B82C-F1822872EA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0856-21D1-49CF-8DFD-B8BCB647A8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9F4B-FCE7-4B3F-85D6-8BB4B27810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8236-9CF9-4861-93A8-3071B80569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4E1C-F5A4-4031-8BFB-C352E22667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61B1-7B63-4340-8C53-B39E8D0BA6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CD25-C5B3-4F18-8E7B-8EC79B49B2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F123-A28F-4748-9011-FA58CE1E2D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3B77-437A-4E47-BFE7-1AC6D513BA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C19E-2326-44A9-BB10-B67082DBB9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CC6B-EA2C-49CD-88EB-938D8FFD7B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FC7A-A87B-472C-A8C5-46FFA00B5E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8474-AD03-4C29-83F3-FCF5D55881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F080-2515-4E79-904F-5CC144115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FD7A-DAFE-437D-96E1-D92F728012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DE79-F4AB-4E5C-9FC9-282BA96E9F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F15B-9932-4605-BC0E-B6ED2935B2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561A-6FCD-4944-BC2C-5E33266B3C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5629-13D4-4082-9988-FEC52F496B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5248-E9D3-4E76-AF8D-D14C97EE3F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7187-42D1-46A5-89A8-CF87D25C91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E978-D10C-420E-80B2-6857B53322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468360" y="3186000"/>
            <a:ext cx="829620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81160" y="1438200"/>
            <a:ext cx="8581680" cy="3981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8172360" y="227664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03280" y="2938320"/>
            <a:ext cx="1368360" cy="498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948360" y="3557520"/>
            <a:ext cx="1511280" cy="4986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556000" y="422100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050920" y="4869000"/>
            <a:ext cx="72072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714240" y="890640"/>
            <a:ext cx="7715520" cy="50767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655640" cy="4982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1619280" y="3500280"/>
            <a:ext cx="1655640" cy="4986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3780000" y="4365720"/>
            <a:ext cx="1655640" cy="4982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6156360" y="5229360"/>
            <a:ext cx="165564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576360" y="866880"/>
            <a:ext cx="7991280" cy="5124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4572000" y="2247840"/>
            <a:ext cx="3672000" cy="498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4745160" y="4710240"/>
            <a:ext cx="367164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318960" y="1380960"/>
            <a:ext cx="8506080" cy="40960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4680000" cy="4986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4679640" cy="4986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611280" y="4840200"/>
            <a:ext cx="6840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276120" y="700200"/>
            <a:ext cx="8591760" cy="54576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55640" y="3571920"/>
            <a:ext cx="4392720" cy="498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611280" y="4235400"/>
            <a:ext cx="4392360" cy="498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828720" y="4983120"/>
            <a:ext cx="4392720" cy="4986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684360" y="5646600"/>
            <a:ext cx="4392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33280" y="44280"/>
            <a:ext cx="8371080" cy="65613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4392360" cy="498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611280" y="3471840"/>
            <a:ext cx="5616360" cy="4986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5616360" cy="4986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539640" y="4797360"/>
            <a:ext cx="5616720" cy="4986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468360" y="5487840"/>
            <a:ext cx="8280360" cy="498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395280" y="6149880"/>
            <a:ext cx="8280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4276" descr=""/>
          <p:cNvPicPr/>
          <p:nvPr/>
        </p:nvPicPr>
        <p:blipFill>
          <a:blip r:embed="rId1"/>
          <a:stretch/>
        </p:blipFill>
        <p:spPr>
          <a:xfrm>
            <a:off x="271440" y="1333440"/>
            <a:ext cx="8601120" cy="41911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755640" y="3602160"/>
            <a:ext cx="2808360" cy="4982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611280" y="4249800"/>
            <a:ext cx="4392360" cy="4982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468360" y="4956120"/>
            <a:ext cx="77756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8362800" cy="130500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52232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534000" cy="20192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3794040" y="177336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6862680" y="177336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3836880" y="249228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6862680" y="249228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1116000" y="414972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4197240" y="414972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7740720" y="4121280"/>
            <a:ext cx="1079280" cy="4982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1332000" y="4811760"/>
            <a:ext cx="720720" cy="4986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4356000" y="479736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7754760" y="4797360"/>
            <a:ext cx="1008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19:48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